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0B5-307F-4882-8B04-201EC03F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9C2-7F51-44F2-B932-B46A6FE7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40C-CA81-4F99-8AA9-1F740143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621-909F-47E3-9BB8-054968DB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CF3-F8BA-4FBD-92AD-2A9BB315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B85-08BC-47B7-A16D-CD81AE2B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6F3-2A37-4A9E-8D10-27E3C937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31F-357C-48B6-9B60-F4A2E981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FF0F-3EDD-4674-A825-EFAA068B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951-FDCA-4914-9D88-C8ECA11B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A96-224D-4F65-8278-0014D116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DC0-85BD-496D-A577-2E9D2507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7FF6-9C92-4164-A02F-AE8F892E8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Coat_of_Arms_of_the_Kingdom_of_Portugal_(1640-1910).pn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e/Portugal_Imp&#233;rio_total.png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2/21/Spain_and_Portugal.png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2/26/The_British_Empire.png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Embarkation-Weir.PNG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en.wikipedia.org/wiki/File:Usa_edcp_location_map.svg" TargetMode="External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c/ce/French_Empire_17th_century-20th_century.png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9/90/Spanish_Empire_Anachronous_0.PNG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34340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7010280" y="457200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0000"/>
                </a:solidFill>
                <a:uFillTx/>
                <a:latin typeface="Blackadder ITC"/>
              </a:rPr>
              <a:t>The Coloni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lackadder ITC"/>
              </a:rPr>
              <a:t>England, France, Spain, Portugal and Netherlands (Dutc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4048200"/>
            <a:ext cx="1628640" cy="2809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600200" y="4343400"/>
            <a:ext cx="2895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lackadder ITC"/>
              </a:rPr>
              <a:t>Portuguese colonies 1650-17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4572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es i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st in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 indies &amp;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85840" y="137124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zil and N. America: failed w/ gold and silver, brazil wood (dye and wood), c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ittle taken from this area could not compete w/ other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. Africa: trading ports &amp; sla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au (China), Japan, and Goa: spices, silk,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72400" y="0"/>
            <a:ext cx="13716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File:Portugal Império total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838080"/>
            <a:ext cx="9144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File:Spain and Portugal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1430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skerville Old Face"/>
              </a:rPr>
              <a:t>Treaty of Tordesilhas 149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lackadder ITC"/>
              </a:rPr>
              <a:t>The Netherlands (Dutch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es i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st in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 indies &amp;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east US: fur trade Dutch East Indie Co. (known as V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uba, Curacao, and Saint Maarten: sugar &amp;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e town: Slaves, livestock and kicked Portuguese out, Bo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m, Philippines, Thailand, Taiwan China &amp; touched Japan: Spices and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File:DutchEmpire15.png"/>
          <p:cNvPicPr/>
          <p:nvPr/>
        </p:nvPicPr>
        <p:blipFill>
          <a:blip r:embed="rId2"/>
          <a:stretch/>
        </p:blipFill>
        <p:spPr>
          <a:xfrm>
            <a:off x="0" y="961920"/>
            <a:ext cx="91440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lackadder ITC"/>
              </a:rPr>
              <a:t>Ind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Ru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ortugal 1510-19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Casa da Ín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Portuguese East India Compa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ritain 1613-19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East India Compa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Company rule in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ritish Ra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ritish rule in Bu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as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rtition of India 194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0" y="8380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uropeans (Portuguese, British, French, &amp; Dutch manipulated rul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roxy rulers and mil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ortuguese threatened by others, Co. was not successful against joint- stock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Willia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extiles vs. Sp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attle of Plassey 17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ritish vs French (sepoy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58000" y="4114800"/>
            <a:ext cx="60948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25520" y="0"/>
            <a:ext cx="649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File:European settlements in India 1501-1739.pn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t In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tch 1595-1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irst expedition = 400%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in 1565-18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hilippine Islands, Guam and the Mariana Islands, the Caroline Islands, Palau and the Federated States of Micronesia. (governed by Mexico 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anish American war l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and early 1600’s till around 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e late 1600’s till late 170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ugal 1505-late 170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monopolies on nutmeg, mace spice, cloves and cinna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indigenous cash crops like coffee, tea, cacao, tobacco, rubber, sugar and op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sp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tu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p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ght Nagasa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343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400800" y="990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u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Logo of the VOC"/>
          <p:cNvPicPr/>
          <p:nvPr/>
        </p:nvPicPr>
        <p:blipFill>
          <a:blip r:embed="rId2"/>
          <a:stretch/>
        </p:blipFill>
        <p:spPr>
          <a:xfrm>
            <a:off x="6531120" y="1676520"/>
            <a:ext cx="965160" cy="99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The French East India Company's coat of arms, with its moto : &quot;Florebo quocumque ferar&quot; (i will flourish wherever I will be brought.&quot;"/>
          <p:cNvPicPr/>
          <p:nvPr/>
        </p:nvPicPr>
        <p:blipFill>
          <a:blip r:embed="rId4"/>
          <a:stretch/>
        </p:blipFill>
        <p:spPr>
          <a:xfrm>
            <a:off x="6477120" y="4210200"/>
            <a:ext cx="26668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Blackadder ITC"/>
              </a:rPr>
              <a:t>English Colonies 1650-17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3962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es in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Amer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In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/East Indies (East Indies trading C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81280" y="914400"/>
            <a:ext cx="5562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d from Newfoundland to Georgia. Land, Tobacco, Rum, lumber, Indigo &amp;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them as the Caribbean. Barbados, Jamaica, St. Kitts, &amp; Cayman Isles. Sugar, Molasses, &amp; Sl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mbay, Bantam, &amp;, Surat. Textiles(#1), Spices, &amp; 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d in Seirra Leone, Gold coast, Nigeria, Egypt…Slaves &amp; G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lish Joint-Stock Companies allowed better trade by providing more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le:The British Empir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8580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lackadder ITC"/>
              </a:rPr>
              <a:t>Colonies in N.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lackadder ITC"/>
              </a:rPr>
              <a:t>Lost colony of Roanoke, founded1585 by Walter Raleigh. N. Carolina. Disappeared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lackadder ITC"/>
              </a:rPr>
              <a:t>Jamestown 1</a:t>
            </a:r>
            <a:r>
              <a:rPr b="0" lang="en-US" sz="3800" spc="-1" strike="noStrike" baseline="30000">
                <a:solidFill>
                  <a:srgbClr val="000000"/>
                </a:solidFill>
                <a:latin typeface="Blackadder ITC"/>
              </a:rPr>
              <a:t>st</a:t>
            </a:r>
            <a:r>
              <a:rPr b="0" lang="en-US" sz="3800" spc="-1" strike="noStrike">
                <a:solidFill>
                  <a:srgbClr val="000000"/>
                </a:solidFill>
                <a:latin typeface="Blackadder ITC"/>
              </a:rPr>
              <a:t> permanent settlement, founded by Virginia company in 1607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lackadder ITC"/>
              </a:rPr>
              <a:t>Plymouth Colony founded in 1620 by Puritans. Reason = religious in nat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914400"/>
            <a:ext cx="3200400" cy="21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Jamestown, Virginia is located in United State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3048120"/>
            <a:ext cx="3276720" cy="2030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91320" y="3657600"/>
            <a:ext cx="27432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5029200" y="2209680"/>
            <a:ext cx="809640" cy="777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5345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7631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867280" y="3733560"/>
            <a:ext cx="281952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lackadder ITC"/>
              </a:rPr>
              <a:t>French Colonies 1650-17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es i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st in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 indies &amp;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9360" y="1142640"/>
            <a:ext cx="4267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n Canada (New France) &amp; St. Lawrence river valley: furs, religion,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int-Domingue, Saint Kitts: sugar and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. Africa around Senegal: trading ports of African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East India Co., Bengal: spices, goods, coffee &amp; 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File:French Empire 17th century-20th century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762120"/>
            <a:ext cx="914400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lackadder ITC"/>
              </a:rPr>
              <a:t>Spanish colonies 1650-17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es i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st in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 indies &amp;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settled in Mexico, south &amp; western common day U.S.A.: gold, silver &amp;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paniola, Cuba, Jamaica: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iers &amp; Tripoli: trading outposts, sla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pines &amp; Guam: porcelain, silk &amp; sp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64008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gion was spread in all of thes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File:Spanish Empire Anachronous 0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76320" y="533520"/>
            <a:ext cx="922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4:59:17Z</dcterms:created>
  <dc:creator>JObert</dc:creator>
  <dc:description/>
  <dc:language>en-US</dc:language>
  <cp:lastModifiedBy>jobert</cp:lastModifiedBy>
  <dcterms:modified xsi:type="dcterms:W3CDTF">2012-12-16T22:34:32Z</dcterms:modified>
  <cp:revision>22</cp:revision>
  <dc:subject/>
  <dc:title>The Colonies</dc:title>
</cp:coreProperties>
</file>